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6CB-8CB7-475B-9596-FC1E95C9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1F0F-96B0-411D-BEF7-1BE9E4CF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E7A1-AD73-4450-B680-52019E83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EA65-6EEE-4B0F-A669-42051C13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456B-090E-49AA-853A-6D2242C6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6585-5D83-4172-BFC1-AA509B41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CDAB-B122-4233-B5D2-3712F9A4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A900-4E25-4003-A80E-5A740193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77D5-4CCB-4849-A8D0-F12AE4F6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B75C-8030-4CF5-BDFE-670F4825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AB76-91A7-4EB6-9BD2-978AD7D9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F1D1-823A-435A-A48D-9EDDAEFC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598A-00BD-4197-BF8C-B5CDDA0720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on%20lend%20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358920" y="2852640"/>
            <a:ext cx="842472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БЛЕМЫ 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ологического права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324000" y="201600"/>
            <a:ext cx="856908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у экологического законодательства возглавляет Закон ДНР «Об охране окружающей среды» № 38-IНС от 30.04.20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правовые документы – источники экологического права в ДН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ный кодекс ДНР от 7 февраля 2020 го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«Об охране атмосферного воздуха» № 226-IHC от 25.05.201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«О животном мире» № 186-IHC от 04.08.201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«Об особо охраняемых территориях» от 30.04.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«О рыболовстве и сохранении водных биологических ресурсов» № 185-IHC от 23.06.201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«Об отходах производства и потребления» № 82-IHC от 09.10.20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«Об экологической экспертизе» № 81-IHC от 09.10.20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«О недрах» № 58-IHC от 12.06.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«О промышленной безопасности опасных производственных объектов» № 54-IHC от 05.06.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«Об обеспечении санитарного и эпидемического благополучия населения» № 40-IHC от 10.04.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«О защите населения и территорий от чрезвычайных ситуаций природного и техногенного характера»     № 11-IHC от 20.02.201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«О лицензировании отдельных видов хозяйственной деятельности» № 18-IНС от 27.02.2015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807240"/>
          </a:xfrm>
          <a:prstGeom prst="rect">
            <a:avLst/>
          </a:prstGeom>
          <a:ln w="0">
            <a:noFill/>
          </a:ln>
        </p:spPr>
      </p:pic>
      <p:sp>
        <p:nvSpPr>
          <p:cNvPr id="44" name="WordArt 4"/>
          <p:cNvSpPr txBox="1"/>
          <p:nvPr/>
        </p:nvSpPr>
        <p:spPr>
          <a:xfrm>
            <a:off x="1187280" y="0"/>
            <a:ext cx="684072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Прямоугольник 1"/>
          <p:cNvSpPr/>
          <p:nvPr/>
        </p:nvSpPr>
        <p:spPr>
          <a:xfrm>
            <a:off x="539640" y="47628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Проблемы интеграции  экологического законодательства з международными эколого-правовыми стандарта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Международное право охраны окружающей сре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овокупность норм и принципов, призванных регулировать международные отношения в сфере защиты окружающей среды в целях охраны и рационального использования природных ресур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ое сотрудничество проявляется в двух направления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создание норм, призванных защищать отдельные природные объек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осуществление надзора за тем, чтобы та или иная деятельность государства или международной организации происходила с учетом последствия данной деятельности для окружающей среды, и по возможности, предотвращала и сокращала вред от осуществления эт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68680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К объектам международно-правовой охраны относят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дные ресурсы, атмосферу, экосистемы, Антарктику и поч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4969080" cy="448452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5251320" y="2133720"/>
            <a:ext cx="3892680" cy="452736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Исто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рвым историческим документом в области международно-правовой охраны животного мира принято считать Парижскую Конвенцию 1902 го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священную проблеме охраны птиц, полезных для сельского хозяйства. Современная система международной охраны окружающей среды зародилась в 1972 г. на Конференции ООН, прошедшей в Стокгольме, некоторые международные экологические соглашений, в частности, по загрязнению морской среды, были подписаны еще до этой конференции. Однако именно после Стокгольмской конференции произошел всплеск правотворческой активности на национальном и международном уровн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токгольмская конференция привела к созданию ЮНЕП (Программа ООН по окружающей среде). Сегодня эта организация выполняет административные функции по семи крупным конвенциям, а также множеству региональных соглашений. Зачастую ее называют «экологической совестью» О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4500720" y="3510000"/>
            <a:ext cx="2855880" cy="334800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189000"/>
            <a:ext cx="4546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85 г. ООН создала Всемирную комиссию по окружающей среде и развитию, которая в 1987 г. издала доклад «Наше общее будущее», где впервые сформулирована концепция устойчивого развития, целью которого является улучшение условий жизни человека, достигаемое в гармонии с прир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92 г. в Декларации по окружающей среде и развитию ООН провозгласила основные принципы экологического пр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5219640" y="1268280"/>
            <a:ext cx="3700440" cy="370044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6049800" cy="685800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6300720" y="1268280"/>
            <a:ext cx="2579760" cy="331164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0" y="907920"/>
            <a:ext cx="2936880" cy="453708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sp>
        <p:nvSpPr>
          <p:cNvPr id="60" name=""/>
          <p:cNvSpPr txBox="1"/>
          <p:nvPr/>
        </p:nvSpPr>
        <p:spPr>
          <a:xfrm>
            <a:off x="3203280" y="333000"/>
            <a:ext cx="5761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ЧНИКАМИ экологического прав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нецкой Народной Республ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ются следующие правовые доку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конститу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законы и кодексы в области охраны прир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постановления и распоряжения Народного Совета ДНР по вопросам экологии и природопользования; правительственные природоохранные ак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нормативно-правовые ак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нормативные решения органов местного самоуп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4:46:30Z</dcterms:created>
  <dc:creator>Admin</dc:creator>
  <dc:description/>
  <dc:language>en-US</dc:language>
  <cp:lastModifiedBy>User</cp:lastModifiedBy>
  <dcterms:modified xsi:type="dcterms:W3CDTF">2021-10-04T10:47:25Z</dcterms:modified>
  <cp:revision>8</cp:revision>
  <dc:subject/>
  <dc:title>Слайд 1</dc:title>
</cp:coreProperties>
</file>